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461E-1A38-43FF-ABBA-BE09A264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F6F-483E-4507-B082-CA2069B8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F034-A614-421D-9E1F-59C3B37B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6722-C336-463D-A095-2BA856C0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44BC-AD64-4F68-A2CE-CFDD90D9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C132-EA1C-4A86-B109-25EEDCA1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51FC-2F37-4233-A4B0-E3E823E3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116C-9CFB-48B5-BD51-7AD1B9C6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7B14-BBAC-4FAB-A628-1229EC2E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1EB-15F1-4A2F-A261-59A6B883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6329-10DE-4432-AF20-5759ACC3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ED9-5EEB-445C-9504-D781B572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C913-B861-4B9F-B565-1BEFEB185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llthepages.org/images/blog/blog-5th.jpg&amp;imgrefurl=http://www.allthepages.org/wp/archives/2007/05&amp;usg=__nvkgoj3snWDIfSSkXvvJSxzKx7s=&amp;h=333&amp;w=500&amp;sz=79&amp;hl=en&amp;start=1&amp;um=1&amp;tbnid=9gid3t4hziZ60M:&amp;tbnh=87&amp;tbnw=130&amp;prev=/images%3Fq%3Dbirthday%2Bcake%2B%2B5%26um%3D1%26hl%3De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grandmasecrets.com/images/cake5.jpg&amp;imgrefurl=http://www.grandmasecrets.com/pages/childrencakes.html&amp;usg=__3KSsGo7n6tkuOodSa5uma5UmYUA=&amp;h=230&amp;w=220&amp;sz=14&amp;hl=en&amp;start=2&amp;um=1&amp;tbnid=vYqsbNB54lwiwM:&amp;tbnh=108&amp;tbnw=103&amp;prev=/images%3Fq%3Dbirthday%2Bcake%2B%2B5%26um%3D1%26hl%3Den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cafepress.com/product/257521850v6_350x350_Front.jpg&amp;imgrefurl=http://bumperstickers.cafepress.com/item/35th-birthday-cake-3quot-lapel-sticker-48-pk/257521850&amp;usg=__Z-kCwqo18lUQlHUqUHwLSivb_js=&amp;h=350&amp;w=350&amp;sz=31&amp;hl=en&amp;start=31&amp;um=1&amp;tbnid=pojSf1IAss6VOM:&amp;tbnh=120&amp;tbnw=120&amp;prev=/images%3Fq%3Dbirthday%2Bcake3%26start%3D20%26ndsp%3D20%26um%3D1%26hl%3Den%26sa%3D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0.blogger.com/_xDJo78pPKDM/R7SFiRoNJcI/AAAAAAAAAYw/earumNt46N0/s400/40th%2BBirthday%2Bcake.JPG&amp;imgrefurl=http://nadia-zucchelli.blogspot.com/2008/02/40th-birthday-cake.html&amp;usg=__TKX-VATCYaoO7JN8gT_ccxcIsS8=&amp;h=208&amp;w=400&amp;sz=22&amp;hl=en&amp;start=58&amp;um=1&amp;tbnid=W8d_bNx39ZIMTM:&amp;tbnh=64&amp;tbnw=124&amp;prev=/images%3Fq%3Dbirthday%2Bcake%2B40%26start%3D40%26ndsp%3D20%26um%3D1%26hl%3Den%26sa%3DN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1.static.flickr.com/31/67285242_e2682fa8cb.jpg%3Fv%3D0&amp;imgrefurl=http://flickr.com/photos/38109472%40N00/67285242&amp;usg=__lUVzyefCg5TCVhVu1drNOumJqDU=&amp;h=500&amp;w=413&amp;sz=108&amp;hl=en&amp;start=48&amp;um=1&amp;tbnid=s7UdTEBcr7pADM:&amp;tbnh=130&amp;tbnw=107&amp;prev=/images%3Fq%3D100%2Byears%2Bold%2B%2Bman%26start%3D40%26ndsp%3D20%26um%3D1%26hl%3Den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sledegrande.com/giimages8/helen-groff100th.jpg&amp;imgrefurl=http://www.isledegrande.com/islanders2004.htm&amp;usg=__HMfWwQYjBp3xx6UWwjhU0Js16lg=&amp;h=295&amp;w=300&amp;sz=86&amp;hl=en&amp;start=3&amp;um=1&amp;tbnid=BwK6n4JUBls4kM:&amp;tbnh=114&amp;tbnw=116&amp;prev=/images%3Fq%3D100%2Byears%2Bold%2Bwoman%26um%3D1%26hl%3Den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symptotia.com/wp-images/2008/02/the_tree_3.jpg&amp;imgrefurl=http://asymptotia.com/2008/02/05/the-tree-i/&amp;usg=__UGtQPEOoj9eoGlo1EuZWBYFjAiw=&amp;h=768&amp;w=576&amp;sz=202&amp;hl=en&amp;start=5&amp;um=1&amp;tbnid=BoHBNzK6SXu9dM:&amp;tbnh=142&amp;tbnw=107&amp;prev=/images%3Fq%3D100%2Byears%2Bold%2Bw%2Btree%26um%3D1%26hl%3De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utchway.com/shared/Editor/assets/franklin-house.gif&amp;imgrefurl=http://www.dutchway.com/v.php%3Fpg%3D54&amp;usg=__uNcx9YahbRbbI8gcYzNvCzsebSE=&amp;h=400&amp;w=475&amp;sz=62&amp;hl=en&amp;start=2&amp;um=1&amp;tbnid=M0mjv_eaJMNCrM:&amp;tbnh=109&amp;tbnw=129&amp;prev=/images%3Fq%3D100%2Byears%2Bold%2B%2Bhouse%26um%3D1%26hl%3Den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praguephoto.com/stock/images/Cambodia/06km739.jpg&amp;imgrefurl=http://www.spraguephoto.com/search.lasso%3Fcategory%3DTourism%26-token.max%3D60%26skip%3D0&amp;usg=__98UcjVc0DPm_vPS5hgckKkoKETg=&amp;h=306&amp;w=460&amp;sz=42&amp;hl=en&amp;start=19&amp;um=1&amp;tbnid=_YQSmRtYfDeJcM:&amp;tbnh=85&amp;tbnw=128&amp;prev=/images%3Fq%3Dtourists%2B%2Btaking%2Bpictures%26um%3D1%26hl%3De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chulgasser.org/projects/camel/tourist.jpg&amp;imgrefurl=http://schulgasser.org/FC.html&amp;usg=__x0nYEIDHyfkJBCG2DOR4KW41TfQ=&amp;h=600&amp;w=800&amp;sz=204&amp;hl=en&amp;start=31&amp;um=1&amp;tbnid=JVSjSkydefGycM:&amp;tbnh=107&amp;tbnw=143&amp;prev=/images%3Fq%3Da%2Btourist%2Bin%2Bjerisalem%26start%3D20%26ndsp%3D20%26um%3D1%26hl%3Den%26sa%3DN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153.photobucket.com/albums/s207/beaglebailey515/grybowskichuppah.jpg&amp;imgrefurl=http://www.rabbiforinterfaithwedding.com/sitemap.html&amp;usg=__myezca7UYY7kUzpcxJBNVFEKeK8=&amp;h=676&amp;w=644&amp;sz=278&amp;hl=en&amp;start=15&amp;um=1&amp;tbnid=7mCfuc_ZHeyi7M:&amp;tbnh=139&amp;tbnw=132&amp;prev=/images%3Fq%3Djewish%2Bwedding%26um%3D1%26hl%3Den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166.photobucket.com/albums/u92/cesnak/Once-soundtrack2007.jpg&amp;imgrefurl=http://mollyjorose.blogspot.com/2008/01/top-albums-of-2007.html&amp;usg=__mFEnJaC0rzUVXwKgnRF1aDiFsls=&amp;h=500&amp;w=500&amp;sz=63&amp;hl=en&amp;start=2&amp;um=1&amp;tbnid=-1NpBI1_sI2upM:&amp;tbnh=130&amp;tbnw=130&amp;prev=/images%3Fq%3Donce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wlnet.rice.edu/~missy/chuppah.gif&amp;imgrefurl=http://www.owlnet.rice.edu/~missy/jceremony.html&amp;usg=__sADAson81IkJpLS8swpZkrdzBa8=&amp;h=398&amp;w=357&amp;sz=47&amp;hl=en&amp;start=44&amp;um=1&amp;tbnid=PEbEcDb7-vA1PM:&amp;tbnh=124&amp;tbnw=111&amp;prev=/images%3Fq%3Djewish%2Bwedding%26start%3D40%26ndsp%3D20%26um%3D1%26hl%3Den%26sa%3DN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ache.daylife.com/imageserve/0cjp7GXd2f88g/340x.jpg&amp;imgrefurl=http://www.daylife.com/photo/0cjp7GXd2f88g&amp;usg=__dE2qqtnQTZNdjFhkfhy8qXkWlFE=&amp;h=498&amp;w=340&amp;sz=57&amp;hl=en&amp;start=3&amp;um=1&amp;tbnid=9ybBVZEKXq34xM:&amp;tbnh=130&amp;tbnw=89&amp;prev=/images%3Fq%3Djewish%2B%2Bgroom%26um%3D1%26hl%3Den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z.about.com/d/judaism/1/5/E/a/glass1.jpg&amp;imgrefurl=http://judaism.about.com/od/weddings/ss/wedding_how_9.htm&amp;usg=__ixFBm0qeJy1OnfUc3jUBrvsZK6c=&amp;h=400&amp;w=400&amp;sz=109&amp;hl=en&amp;start=29&amp;um=1&amp;tbnid=NCdum2aJSgp3PM:&amp;tbnh=124&amp;tbnw=124&amp;prev=/images%3Fq%3Djewish%2B%2B%2Bbride%26start%3D20%26ndsp%3D20%26um%3D1%26hl%3Den%26sa%3DN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ia.redgaloshes.com/sq/273/008411.jpg&amp;imgrefurl=http://www.thatsmytopper.com/product/016914.shtml&amp;usg=__qirURfxZMn0y1kJpbWAJGw79SoA=&amp;h=273&amp;w=273&amp;sz=7&amp;hl=en&amp;start=60&amp;um=1&amp;tbnid=WqwiQdkL1zZ30M:&amp;tbnh=113&amp;tbnw=113&amp;prev=/images%3Fq%3Djewish%2B%2B%2Bbride%26start%3D40%26ndsp%3D20%26um%3D1%26hl%3Den%26sa%3DN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eneden.com/wedding/jana%26daniel/photographs/bride-wine.jpg&amp;imgrefurl=http://www.beneden.com/wedding/jana%26daniel/ceremony.html&amp;usg=__TPyEymbY-_DbNHaKnNz90ldG2Lo=&amp;h=400&amp;w=600&amp;sz=59&amp;hl=en&amp;start=76&amp;um=1&amp;tbnid=b4yJuTeaDSzdgM:&amp;tbnh=90&amp;tbnw=135&amp;prev=/images%3Fq%3Djewish%2B%2B%2Bbride%26start%3D60%26ndsp%3D20%26um%3D1%26hl%3Den%26sa%3DN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ntasy.allbiz.co.il/Data/164641_&#1495;&#1514;&#1493;&#1504;&#1492;_&#1502;&#1488;&#1490;&#1491;&#1493;&#1514;.jpg&amp;imgrefurl=http://fantasy.allbiz.co.il/&amp;usg=__ilhFn42fJi8mSdTqdHRNwx8N2fk=&amp;h=341&amp;w=472&amp;sz=81&amp;hl=en&amp;start=40&amp;um=1&amp;tbnid=9ZjvAogIYoDxEM:&amp;tbnh=93&amp;tbnw=129&amp;prev=/images%3Fq%3D%25D7%2594%25D7%2596%25D7%259E%25D7%25A0%25D7%2594%2B%2B%25D7%259C%25D7%2597%25D7%25AA%25D7%2595%25D7%25A0%25D7%2594%26start%3D20%26ndsp%3D20%26um%3D1%26hl%3Den%26sa%3D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he/thumb/a/ab/&#1508;&#1513;&#1511;&#1493;&#1493;&#1497;&#1500;.jpg/250px-&#1508;&#1513;&#1511;&#1493;&#1493;&#1497;&#1500;.jpg&amp;imgrefurl=http://he.wikipedia.org/wiki/%25D7%259E%25D7%2590%25D7%2594_%25D7%25A9%25D7%25A2%25D7%25A8%25D7%2599%25D7%259D&amp;usg=__BEjdPUt4Co0LRs5gLi_t9MtzJeI=&amp;h=188&amp;w=250&amp;sz=25&amp;hl=en&amp;start=24&amp;um=1&amp;tbnid=xqpxliYkbfL96M:&amp;tbnh=83&amp;tbnw=111&amp;prev=/images%3Fq%3D%25D7%259E%25D7%2595%25D7%2593%25D7%25A2%25D7%2595%25D7%25AA%2B%25D7%2591%25D7%259E%25D7%2590%25D7%2594%2B%25D7%25A9%25D7%25A2%25D7%25A8%25D7%2599%25D7%259D%26start%3D20%26ndsp%3D20%26um%3D1%26hl%3Den%26sa%3DN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images.google.com/imgres?imgurl=http://www.photolight.co.il/photo/2007-10-05/pv114750.jpg&amp;imgrefurl=http://www.photolight.co.il/show_photo/author3188/group7/116763.html&amp;usg=__B6ILBUEw9GwsBtuk2N_pdUvbBJE=&amp;h=150&amp;w=107&amp;sz=17&amp;hl=en&amp;start=22&amp;um=1&amp;tbnid=cS4qiIbGThSSdM:&amp;tbnh=96&amp;tbnw=68&amp;prev=/images%3Fq%3D%25D7%259E%25D7%2595%25D7%2593%25D7%25A2%25D7%2595%25D7%25AA%2B%25D7%2591%25D7%259E%25D7%2590%25D7%2594%2B%25D7%25A9%25D7%25A2%25D7%25A8%25D7%2599%25D7%259D%26start%3D20%26ndsp%3D20%26um%3D1%26hl%3Den%26sa%3DN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hol.co.il/upload0608/200866_1358532433_&#1508;&#1513;&#1506;%2520&#1513;&#1493;&#1511;.jpg&amp;imgrefurl=http://www.bhol.co.il/forum/topic.asp%3Ftopic_id%3D2424633&amp;usg=__GlLCqLbizDCYKPSBYP5aI3WkBfU=&amp;h=1280&amp;w=960&amp;sz=200&amp;hl=en&amp;start=35&amp;um=1&amp;tbnid=SWyONRN6F2TCRM:&amp;tbnh=150&amp;tbnw=113&amp;prev=/images%3Fq%3D%25D7%259E%25D7%2595%25D7%2593%25D7%25A2%25D7%2595%25D7%25AA%2B%25D7%2591%25D7%259E%25D7%2590%25D7%2594%2B%25D7%25A9%25D7%25A2%25D7%25A8%25D7%2599%25D7%259D%26start%3D20%26ndsp%3D20%26um%3D1%26hl%3Den%26sa%3DN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images.google.com/imgres?imgurl=http://upload.wikimedia.org/wikipedia/commons/1/11/Panneau_mea_shearim.jpg&amp;imgrefurl=http://commons.wikimedia.org/wiki/Image:Panneau_mea_shearim.jpg&amp;usg=__aDCIh6Kwy0ksUKtMfspRtV_mMTE=&amp;h=1920&amp;w=2560&amp;sz=1791&amp;hl=en&amp;start=4&amp;um=1&amp;tbnid=M611Fs9sP5K3RM:&amp;tbnh=113&amp;tbnw=150&amp;prev=/images%3Fq%3Dmea%2Bshearim%26um%3D1%26hl%3Den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net.co.il/PicServer2/20122005/810762/13_wa.jpg&amp;imgrefurl=http://www.ynet.co.il/articles/0,7340,L-3263105,00.html&amp;usg=__kxC0sGsNPjp5Iu4-hgf5beWn2Yo=&amp;h=272&amp;w=408&amp;sz=35&amp;hl=en&amp;start=8&amp;um=1&amp;tbnid=go0BqGwOxZMruM:&amp;tbnh=83&amp;tbnw=125&amp;prev=/images%3Fq%3D%25D7%259E%25D7%2595%25D7%2593%25D7%25A2%25D7%2595%25D7%25AA%2B%25D7%2591%25D7%259E%25D7%2590%25D7%2594%2B%25D7%25A9%25D7%25A2%25D7%25A8%25D7%2599%25D7%259D%26um%3D1%26hl%3Den%26sa%3DG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net.co.il/PicServer2/03072003/299905/Marriage1_a.jpg&amp;imgrefurl=http://www.ynet.co.il/yaan/0,7340,L-16953,00.html&amp;usg=__lHAmz_2-ztmPvjB9NsHEaHGpdb4=&amp;h=116&amp;w=116&amp;sz=8&amp;hl=en&amp;start=20&amp;um=1&amp;tbnid=o1KK094okAlmoM:&amp;tbnh=87&amp;tbnw=87&amp;prev=/images%3Fq%3D%25D7%2597%25D7%25AA%25D7%259F%2B%25D7%2595%25D7%259B%25D7%259C%25D7%2594%2B%25D7%2599%25D7%2594%25D7%2595%25D7%2593%25D7%2599%25D7%259D%26um%3D1%26hl%3Den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amsimonart.files.wordpress.com/2008/04/otk-invite1.jpg&amp;imgrefurl=http://iamsimonart.wordpress.com/2008/04/&amp;usg=__fqubJJvctGHeJuDYGFfh9C0-FDg=&amp;h=574&amp;w=579&amp;sz=451&amp;hl=en&amp;start=34&amp;um=1&amp;tbnid=2LlAJpkfNqI2IM:&amp;tbnh=133&amp;tbnw=134&amp;prev=/images%3Fq%3Donce%2Bupon%2Ba%2Btime%26start%3D20%26ndsp%3D20%26um%3D1%26hl%3Den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ofa.org/img/speakers/44.jpg&amp;imgrefurl=http://barbarany_9.blogspot.com/2007/07/leaders-lift-spirit-in-orthodox-womens.html&amp;usg=__QrtS6hPq8YQg2CUuN6AOcWMtgBo=&amp;h=824&amp;w=678&amp;sz=131&amp;hl=en&amp;start=15&amp;um=1&amp;tbnid=KsNKvn_SBd8bcM:&amp;tbnh=144&amp;tbnw=118&amp;prev=/images%3Fq%3Dorthodox%2Bwomen%26um%3D1%26hl%3De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over6.cduniverse.com/MuzeVideoArt/76/257176.jpg&amp;imgrefurl=http://www.cduniverse.com/productinfo.asp%3Fpid%3D3939915&amp;usg=__Iv1MfZHMN5nRzJaPn-k9ZXbszPo=&amp;h=207&amp;w=144&amp;sz=45&amp;hl=en&amp;start=4&amp;um=1&amp;tbnid=-lUw5o5Ai8TONM:&amp;tbnh=105&amp;tbnw=73&amp;prev=/images%3Fq%3Dtime%2Bof%2Bfavor%2Bmopvie%26um%3D1%26hl%3Den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blockbuster.com/is/amg/dvd/cov150/drt200/t224/t22433ot64n.jpg&amp;imgrefurl=http://www.blockbuster.com/movies/drama-movies-2000.html&amp;usg=__U-d0ksTjt18pQ1RNfN6bsUcdf40=&amp;h=209&amp;w=150&amp;sz=10&amp;hl=en&amp;start=6&amp;um=1&amp;tbnid=_GUp_Q5MNXvvrM:&amp;tbnh=106&amp;tbnw=76&amp;prev=/images%3Fq%3Dtime%2Bof%2Bfavor%2Bmopvie%26um%3D1%26hl%3Den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mpawards.com/2008/posters/noodle.jpg&amp;imgrefurl=http://www.impawards.com/2008/noodle.html&amp;usg=__DOrtqBOlbbFIjGlrLl8PjemsIy4=&amp;h=755&amp;w=581&amp;sz=81&amp;hl=en&amp;start=2&amp;um=1&amp;tbnid=d8CLjoK0wvm9AM:&amp;tbnh=142&amp;tbnw=109&amp;prev=/images%3Fq%3Dnoodle%2Bmovie%26um%3D1%26hl%3Den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4-dry-skin-natural-products.com/images/DSBathers.gif&amp;imgrefurl=http://www.deadseawarehouse.com/dry-facial-skin-faq.html&amp;usg=__VnkY7evnT_j1ycMNlmoTKxh__6U=&amp;h=225&amp;w=250&amp;sz=18&amp;hl=en&amp;start=26&amp;um=1&amp;tbnid=m6Rm0SHwD6TSIM:&amp;tbnh=100&amp;tbnw=111&amp;prev=/images%3Fq%3Ddead%2Bsea%2Bbathers%26start%3D20%26ndsp%3D20%26um%3D1%26hl%3Den%26sa%3DN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-ink.com/blog/womanInBath.jpg&amp;imgrefurl=http://www.j-ink.com/blog/2005/02/roy-lichtenstein.html&amp;usg=__qvOXIqqUhDvL-Agtb73-6vQ4oUU=&amp;h=294&amp;w=300&amp;sz=27&amp;hl=en&amp;start=19&amp;um=1&amp;tbnid=nGLj2vdkikkDlM:&amp;tbnh=114&amp;tbnw=116&amp;prev=/images%3Fq%3Dwoman%2B%2B%2Btakes%2Bbath%26um%3D1%26hl%3Den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1.trekearth.com/photos/13490/mea_shearim.jpg&amp;imgrefurl=http://www.trekearth.com/gallery/photo588782.htm&amp;usg=__HGNgaO-uNzP5T30dfsrM-XaMfjs=&amp;h=490&amp;w=743&amp;sz=162&amp;hl=en&amp;start=1&amp;um=1&amp;tbnid=B1s5AnE5WTkXWM:&amp;tbnh=93&amp;tbnw=141&amp;prev=/images%3Fq%3Dmea%2Bshearim%26um%3D1%26hl%3Den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abad.com.au/media/images/152/BAeJ1522777.jpg&amp;imgrefurl=http://www.chabad.com.au/templates/articlecco_cdo/aid/547476/jewish/Mikvah.htm&amp;usg=__lLvWGrvw1r8AcFywFXl8fVQHlSs=&amp;h=593&amp;w=465&amp;sz=33&amp;hl=en&amp;start=150&amp;um=1&amp;tbnid=Tt7yDOFq6ge2vM:&amp;tbnh=135&amp;tbnw=106&amp;prev=/images%3Fq%3Dritual%2Bbath%26start%3D140%26ndsp%3D20%26um%3D1%26hl%3Den%26sa%3DN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ights-and-culture.com/India-Varanasi/Varanasi-bath-in-the-Ganges.jpg&amp;imgrefurl=http://www.sights-and-culture.com/India-Varanasi/Varanasi.html&amp;usg=__LnQPd-Yfwl36UkzfADcA2mhtNIw=&amp;h=487&amp;w=700&amp;sz=93&amp;hl=en&amp;start=110&amp;um=1&amp;tbnid=tq-eCgvsqFiKEM:&amp;tbnh=97&amp;tbnw=140&amp;prev=/images%3Fq%3Dritual%2Bbathin%2Bindia%26start%3D100%26ndsp%3D20%26um%3D1%26hl%3Den%26sa%3DN" TargetMode="External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alim.org.il/peoples/freedom/gifs/ma.gif&amp;imgrefurl=http://www.galim.org.il/peoples/freedom/generations3.html&amp;usg=__5plp06gXcpxIenvNLJVlFGMXWJ4=&amp;h=251&amp;w=264&amp;sz=11&amp;hl=en&amp;start=4&amp;um=1&amp;tbnid=3yhnvF4nKSbOlM:&amp;tbnh=106&amp;tbnw=112&amp;prev=/images%3Fq%3D%25D7%259E%25D7%2594%2B%25D7%25A0%25D7%25A9%25D7%25AA%25D7%25A0%25D7%2594%2B%2B%25D7%259E%25D7%2599%25D7%259C%25D7%2599%25D7%259D%26um%3D1%26hl%3D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dana.ashkenazi2.googlepages.com/amsterdam.jpg/amsterdam-full.jpg&amp;imgrefurl=http://dana.ashkenazi2.googlepages.com/passover&amp;usg=__GJ4UAMJcI4pXK8sCDLj19C7Lmt4=&amp;h=512&amp;w=308&amp;sz=62&amp;hl=en&amp;start=27&amp;um=1&amp;tbnid=ZcKKH7mhs_vkhM:&amp;tbnh=131&amp;tbnw=79&amp;prev=/images%3Fq%3D%25D7%2594%25D7%259C%25D7%2599%25D7%259C%25D7%2594%2B%2B%25D7%2594%25D7%2596%25D7%2594%2B%2B%25D7%2594%25D7%259C%25D7%2599%25D7%259C%25D7%2594%2B%2B%25D7%2594%25D7%2596%25D7%2594%26start%3D20%26ndsp%3D20%26um%3D1%26hl%3Den%26sa%3DN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irstchoicedriversed.com/yahoo_site_admin/assets/images/jumping_man_excited.332122530_std.jpg&amp;imgrefurl=http://www.firstchoicedriversed.com/getting_started&amp;usg=__GpRZhrD24SOxT_oIvi47aT0gbj8=&amp;h=1202&amp;w=800&amp;sz=38&amp;hl=en&amp;start=1&amp;um=1&amp;tbnid=QXbMlGF5PfrQYM:&amp;tbnh=150&amp;tbnw=100&amp;prev=/images%3Fq%3Dman%2Bexcited%26um%3D1%26hl%3Den" TargetMode="External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llon.com/photos/kotel.jpg&amp;imgrefurl=http://www.allon.com/humor.htm&amp;usg=__2pYiCRcIFihR91Pf3saHJ8vIib8=&amp;h=422&amp;w=286&amp;sz=50&amp;hl=en&amp;start=48&amp;um=1&amp;tbnid=X7x13ICoWOfzLM:&amp;tbnh=126&amp;tbnw=85&amp;prev=/images%3Fq%3Dman%2B%2Bprays%2Bnext%2Bto%2Bkotel%26start%3D40%26ndsp%3D20%26um%3D1%26hl%3Den%26sa%3DN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ohnmorganseminars.com/Store/images/ForeverYoungFinallowshadow.jpg&amp;imgrefurl=http://www.johnmorganseminars.com/Store/cd.asp&amp;usg=__-YM7tFDJFWCt5lViPvImMR5JT1Y=&amp;h=700&amp;w=700&amp;sz=76&amp;hl=en&amp;start=5&amp;um=1&amp;tbnid=KfnU5lGx_NdReM:&amp;tbnh=140&amp;tbnw=140&amp;prev=/images%3Fq%3Dforever%2Byoung%26um%3D1%26hl%3Den%26sa%3DG" TargetMode="External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3.static.flickr.com/2347/2392624440_6d7c7c392d.jpg%3Fv%3D0&amp;imgrefurl=http://flickr.com/photos/q-bee/2392624440&amp;usg=__hKf3dwmq3xfJ2mXFzrSfPbvaIvA=&amp;h=2048&amp;w=1536&amp;sz=136&amp;hl=en&amp;start=31&amp;um=1&amp;tbnid=N9LJc1OK-dlV4M:&amp;tbnh=150&amp;tbnw=113&amp;prev=/images%3Fq%3Dboy%2Bgets%2Bdressed%26start%3D20%26ndsp%3D20%26um%3D1%26hl%3Den%26sa%3DN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z.about.com/d/atheism/1/0/I/F/JeruWailingWall1927a-l.jpg&amp;imgrefurl=http://atheism.about.com/library/FAQs/christian/blxtn_jerusalem-wailing02.htm&amp;usg=__8J1EBFKvAchRP8Gttt_irsrrBEQ=&amp;h=455&amp;w=400&amp;sz=31&amp;hl=en&amp;start=1&amp;um=1&amp;tbnid=A6NeH0E5X2dC4M:&amp;tbnh=128&amp;tbnw=113&amp;prev=/images%3Fq%3Dwomen%2Bparying%2Bin%2Bjerusalem%26um%3D1%26hl%3Den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bleplaces.com/images/Men_praying_at_Western_Wall_tb_n010200.jpg&amp;imgrefurl=http://northeastdilemma.blogspot.com/2005_02_20_archive.html&amp;usg=__AfAyFwebx8WbbdrwSzgu-920HdU=&amp;h=300&amp;w=400&amp;sz=36&amp;hl=en&amp;start=6&amp;um=1&amp;tbnid=xYA2Ai4JavW2fM:&amp;tbnh=93&amp;tbnw=124&amp;prev=/images%3Fq%3Dwomen%2Bparying%2Bin%2Bjerusalem%26um%3D1%26hl%3Den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.tsn.com/i/archives/young/young_scrapbook.jpg&amp;imgrefurl=http://www.sportingnews.com/archives/young/&amp;usg=__Yl3NBzb7EJrgQBevV3O7ed2Pt4c=&amp;h=326&amp;w=471&amp;sz=38&amp;hl=en&amp;start=12&amp;um=1&amp;tbnid=lHl5_Jg6vgPKvM:&amp;tbnh=89&amp;tbnw=129&amp;prev=/images%3Fq%3Dyoung%26um%3D1%26hl%3Den%26sa%3D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ent.police.uk/Advice/Young%2520people/pics/Group%2520of%2520four.jpg&amp;imgrefurl=http://www.kent.police.uk/Advice/Young%2520people/LGB%2520young%2520people/LGB%2520young%2520people.html&amp;usg=__k7FMGDE49KkczGMagCDnzogxSkA=&amp;h=350&amp;w=350&amp;sz=31&amp;hl=en&amp;start=1&amp;um=1&amp;tbnid=IOQLCygHnZaffM:&amp;tbnh=120&amp;tbnw=120&amp;prev=/images%3Fq%3Dyoung%2Bpeople%26um%3D1%26hl%3D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bruceylan.com/photography/images/31-40/Young-men,-2005.jpg&amp;imgrefurl=http://www.ebruceylan.com/photography/photography4.php%3Fmid%3D3%26p%3D4&amp;usg=__3OkWTKm1CjnCxht1cYIxMy9an6M=&amp;h=308&amp;w=525&amp;sz=47&amp;hl=en&amp;start=25&amp;um=1&amp;tbnid=DaHEJctBZEBnhM:&amp;tbnh=77&amp;tbnw=132&amp;prev=/images%3Fq%3Dyoung%2B%2Bmen%26start%3D20%26ndsp%3D20%26um%3D1%26hl%3Den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otosearch.com/comp/SBY/SBY319/young-woman-blow_~56567952.jpg&amp;imgrefurl=http://www.fotosearch.com/SBY319/56567952/&amp;usg=__tf0T_b32i9cKx4wWugzN6Yifrho=&amp;h=300&amp;w=300&amp;sz=22&amp;hl=en&amp;start=2&amp;um=1&amp;tbnid=q5D4vRx8e2Q1NM:&amp;tbnh=116&amp;tbnw=116&amp;prev=/images%3Fq%3Dyoung%2Bwoman%26um%3D1%26hl%3D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latin2.cwrl.utexas.edu/~taylor/309K/Group%25204/Janelle/group%2520shot.JPG&amp;imgrefurl=http://slatin2.cwrl.utexas.edu/~taylor/309K/Group%25204/Janelle/Main.htm&amp;usg=__OJ3c2U5VgU1t0mxp3nYizcQt-ck=&amp;h=367&amp;w=490&amp;sz=45&amp;hl=en&amp;start=2&amp;um=1&amp;tbnid=gmF1TNwr9yLdJM:&amp;tbnh=97&amp;tbnw=130&amp;prev=/images%3Fq%3Dyoung%2Bwomen%26um%3D1%26hl%3De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יעור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ילים:   פעם , שלוש פעמים,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גיל,   צעיר,  צעירים , תיירים ,מודעות,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חתן,  כלה,  חתונ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גי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936800"/>
            <a:ext cx="3810240" cy="2549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2362320"/>
            <a:ext cx="19256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</a:t>
            </a: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הגי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של  האי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19810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הגי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2022480"/>
            <a:ext cx="63248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ה </a:t>
            </a:r>
            <a:r>
              <a:rPr b="0" lang="he-IL" sz="4000" spc="-1" strike="noStrike" u="sng">
                <a:solidFill>
                  <a:srgbClr val="000000"/>
                </a:solidFill>
                <a:uFillTx/>
                <a:latin typeface="Arial"/>
              </a:rPr>
              <a:t>הגיל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של האיש? </a:t>
            </a:r>
            <a:br>
              <a:rPr sz="4000"/>
            </a:b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 _____   מא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1828800"/>
            <a:ext cx="30895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ה  הגיל של האישה?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יא  _____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814400"/>
            <a:ext cx="396252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ה  ה</a:t>
            </a:r>
            <a:r>
              <a:rPr b="0" lang="he-IL" sz="4000" spc="-1" strike="noStrike" u="sng">
                <a:solidFill>
                  <a:srgbClr val="000000"/>
                </a:solidFill>
                <a:uFillTx/>
                <a:latin typeface="Arial"/>
              </a:rPr>
              <a:t>גיל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של בעץ?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עץ  _____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1752480"/>
            <a:ext cx="285732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ה  הגיל של הבית?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בית _____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000160"/>
            <a:ext cx="37339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תייר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286000"/>
            <a:ext cx="48006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על גמ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1768320"/>
            <a:ext cx="48769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תונה  יהודי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2800" y="1447920"/>
            <a:ext cx="3979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פעם  אח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9051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828800"/>
            <a:ext cx="31716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ת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133720"/>
            <a:ext cx="2764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כל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790640"/>
            <a:ext cx="3581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חתונה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הם 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183816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התחת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178000"/>
            <a:ext cx="39625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זמנה לחתונ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178000"/>
            <a:ext cx="518184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ודע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1920960"/>
            <a:ext cx="4572000" cy="3419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7920" y="1828800"/>
            <a:ext cx="1888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828800"/>
            <a:ext cx="2568600" cy="3409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808280"/>
            <a:ext cx="32767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נשים ק_ _ _ _ _   מ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_ 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209680"/>
            <a:ext cx="472464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____    ו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81944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פע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10058400" cy="69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368360"/>
            <a:ext cx="449604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חורה  דתי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1752480"/>
            <a:ext cx="2622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חור  דת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1219320"/>
            <a:ext cx="3654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133720"/>
            <a:ext cx="22543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עם ילד סינ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1523880"/>
            <a:ext cx="27939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וא  מ_______ בים המל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2031840"/>
            <a:ext cx="388620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יא  ______  באמבטי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981080"/>
            <a:ext cx="4190760" cy="41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אה שערים היא ______ בירושלי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048120"/>
            <a:ext cx="426744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נשים במאה שערים הולכות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מ _ _ _ בזמנים אחרי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752480"/>
            <a:ext cx="3589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גנגס  מת______   הרבה אנש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2109960"/>
            <a:ext cx="4953240" cy="3431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295280" y="2895480"/>
            <a:ext cx="2032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תלמידים  עושים 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76720" y="18478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וש פעמ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774800"/>
            <a:ext cx="2895480" cy="2739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2133720"/>
            <a:ext cx="21304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בחורות במאה שערים יש ילדים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ג_ _    צ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 _ 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86200" y="1828800"/>
            <a:ext cx="23144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וא  מ______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1828800"/>
            <a:ext cx="3352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וא    מת_ _ _ ליד הכות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057400"/>
            <a:ext cx="24033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נצ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6765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ילד  מ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21240" y="1905120"/>
            <a:ext cx="3155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ן מ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_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2209680"/>
            <a:ext cx="3228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ם מ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____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99080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צעי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2392200"/>
            <a:ext cx="495324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צעיר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9810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נשים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362320"/>
            <a:ext cx="525780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ישה  צעיר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79064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נש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387520"/>
            <a:ext cx="42670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8:19:49Z</dcterms:created>
  <dc:creator>Preferred Customer</dc:creator>
  <dc:description/>
  <dc:language>en-US</dc:language>
  <cp:lastModifiedBy>aschlezinger</cp:lastModifiedBy>
  <dcterms:modified xsi:type="dcterms:W3CDTF">2010-11-02T21:52:22Z</dcterms:modified>
  <cp:revision>4</cp:revision>
  <dc:subject/>
  <dc:title>שיעור  12   מילים:   פעם , שלוש פעמים, גיל,   צעיר,  צעירים , תיירים ,מודעות, חתן,  כלה,  חתונה , </dc:title>
</cp:coreProperties>
</file>